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coin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8D5E-ECF9-4E43-A3E0-8AB463403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3A3D-5E1B-4D24-9BD4-9185AFED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9D0D-7E58-47E1-A35A-DE8025D1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0C7A-ADD3-47AD-98CE-B2E69C9A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3CF3-2638-4351-83DA-434AF76A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7441-9A3F-4761-AB8A-30346DD6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80BA-22AE-4081-8552-19A72103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034E-4E5F-407A-BA0B-2E958EBA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EEDB-A311-4F57-931B-175B561E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0B8E-C1F9-40BE-91C7-DA773A93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9CC7-4631-4CA0-847B-388FF9CC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A04F-7BB0-4298-AFE7-E49C4A9A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39AA-073F-4070-B909-ED3F9B0B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022A-5583-4E0E-B9AF-3FF228BD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D95D-0A33-49FE-8CE2-7B116339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4527-C761-43CD-8A19-707237C21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57D7-9C63-48F0-A048-A051CDAB7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3565-4039-4892-9007-3C5305A6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7F9F-445A-45AD-B188-6011377E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F16C-9648-4DE1-A3DA-395FD9D7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C643-A789-4DD6-B1AA-DCCC5B34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CD0D-C5AC-481F-97D7-1661C024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5DC8-D6EE-480A-926C-D9B72B7C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B6A2-69D4-4AE5-9417-A92DDEA1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E1BF-B2A5-46E0-89BB-CC4F9299A1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2BF3-86AD-4EED-B40F-E52F6B3BAF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Espaces – Unité 6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noms in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/ Te/ L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us/Vous/L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64072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u veux acheter un  sac à ma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62120" y="403848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Je veux _______ acheter un sac à 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971800" y="39625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lu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066680" y="243828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à  ta mèr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0033"/>
                </a:solidFill>
                <a:latin typeface="Times New Roman"/>
              </a:rPr>
              <a:t>Pronoms me/ te / lui/ nous/ vous/ leur</a:t>
            </a:r>
            <a:br>
              <a:rPr sz="38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64072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u vas acheter une mo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62120" y="40384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Je vais _______ acheter une mon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666880" y="3962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lu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867280" y="1676520"/>
            <a:ext cx="304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à mon frèr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0033"/>
                </a:solidFill>
                <a:latin typeface="Times New Roman"/>
              </a:rPr>
              <a:t>Pronoms me/ te / lui/ nous/ vous/ leur</a:t>
            </a:r>
            <a:br>
              <a:rPr sz="38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14040" y="1600200"/>
            <a:ext cx="434340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achetez des C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762120" y="31240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us ________ achetons des 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2362320" y="28954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lu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5257800" y="1523880"/>
            <a:ext cx="358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our/à Sandr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56386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u ne donnes pas de chocola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762120" y="312408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Je ne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ur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donne pas de chocol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4343400" y="2057400"/>
            <a:ext cx="419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à tes par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0033"/>
                </a:solidFill>
                <a:latin typeface="Times New Roman"/>
              </a:rPr>
              <a:t>*Pronoms me/ te / lui/ nous/ vous/ leur</a:t>
            </a:r>
            <a:br>
              <a:rPr sz="38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914040" y="1600200"/>
            <a:ext cx="571500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u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téléphones ce soir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762120" y="31240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Je   ___téléphone ce so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752480" y="29718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0033"/>
                </a:solidFill>
                <a:latin typeface="Times New Roman"/>
              </a:rPr>
              <a:t>Pronoms me/ te / lui/ nous/ vous/ leur</a:t>
            </a:r>
            <a:br>
              <a:rPr sz="38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76960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0033"/>
                </a:solidFill>
                <a:latin typeface="Arial"/>
              </a:rPr>
              <a:t>Tu envoies souvent des emails </a:t>
            </a:r>
            <a:r>
              <a:rPr b="1" lang="fr-FR" sz="2800" spc="-1" strike="noStrike">
                <a:solidFill>
                  <a:srgbClr val="330033"/>
                </a:solidFill>
                <a:latin typeface="Arial"/>
              </a:rPr>
              <a:t>à tes profs</a:t>
            </a:r>
            <a:r>
              <a:rPr b="0" lang="fr-FR" sz="2800" spc="-1" strike="noStrike">
                <a:solidFill>
                  <a:srgbClr val="330033"/>
                </a:solidFill>
                <a:latin typeface="Arial"/>
              </a:rPr>
              <a:t>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762120" y="31240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905120" y="29718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leur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oi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uvent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 emai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0033"/>
                </a:solidFill>
                <a:latin typeface="Times New Roman"/>
              </a:rPr>
              <a:t>Pronoms me/ te / lui/ nous/ vous/ leur</a:t>
            </a:r>
            <a:br>
              <a:rPr sz="38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0033"/>
                </a:solidFill>
                <a:latin typeface="Arial"/>
              </a:rPr>
              <a:t>Vous donnez des cadeaux </a:t>
            </a:r>
            <a:r>
              <a:rPr b="1" lang="fr-FR" sz="2800" spc="-1" strike="noStrike">
                <a:solidFill>
                  <a:srgbClr val="330033"/>
                </a:solidFill>
                <a:latin typeface="Arial"/>
              </a:rPr>
              <a:t>à vos frères et sœurs </a:t>
            </a:r>
            <a:r>
              <a:rPr b="0" lang="fr-FR" sz="2800" spc="-1" strike="noStrike">
                <a:solidFill>
                  <a:srgbClr val="330033"/>
                </a:solidFill>
                <a:latin typeface="Arial"/>
              </a:rPr>
              <a:t>pour leur anniversaire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380880" y="31240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No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905120" y="29718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leur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nnons des cadeaux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0033"/>
                </a:solidFill>
                <a:latin typeface="Times New Roman"/>
              </a:rPr>
              <a:t>Pronoms me/ te / lui/ nous/ vous/ leur</a:t>
            </a:r>
            <a:br>
              <a:rPr sz="38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64072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’est-ce que je pourrais offrir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adame Grébe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762120" y="403848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Je pourrai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ui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ffrir ---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0033"/>
                </a:solidFill>
                <a:latin typeface="Times New Roman"/>
              </a:rPr>
              <a:t>Pronoms me/ te / lui/ nous/ vous/ leur</a:t>
            </a:r>
            <a:br>
              <a:rPr sz="38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Pronoms lui/leu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2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mplace un nom introduit par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609480" y="2895480"/>
            <a:ext cx="7696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e nom représente toujours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une person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1" descr="j0149481"/>
          <p:cNvPicPr/>
          <p:nvPr/>
        </p:nvPicPr>
        <p:blipFill>
          <a:blip r:embed="rId1"/>
          <a:stretch/>
        </p:blipFill>
        <p:spPr>
          <a:xfrm>
            <a:off x="2895480" y="3657600"/>
            <a:ext cx="2144880" cy="217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Pronoms lui/leu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efore the conjugated ver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vous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rends visit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e week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 between the conjugated verb and the infini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vais </a:t>
            </a: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vous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rendre visite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ce week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Pronoms lui/leu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6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1" lang="fr-FR" sz="4600" spc="-1" strike="noStrike" u="sng">
                <a:solidFill>
                  <a:srgbClr val="000000"/>
                </a:solidFill>
                <a:uFillTx/>
                <a:latin typeface="Arial"/>
              </a:rPr>
              <a:t>lui</a:t>
            </a:r>
            <a:r>
              <a:rPr b="1" lang="fr-FR" sz="4600" spc="-1" strike="noStrike">
                <a:solidFill>
                  <a:srgbClr val="000000"/>
                </a:solidFill>
                <a:latin typeface="Arial"/>
              </a:rPr>
              <a:t> parle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Je veux </a:t>
            </a:r>
            <a:r>
              <a:rPr b="1" lang="fr-FR" sz="4800" spc="-1" strike="noStrike" u="sng">
                <a:solidFill>
                  <a:srgbClr val="000000"/>
                </a:solidFill>
                <a:uFillTx/>
                <a:latin typeface="Arial"/>
              </a:rPr>
              <a:t>lui</a:t>
            </a: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 parl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Pronoms me/ te / lui/ nous/ vous/ leu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2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enez un tableau – un chiffon – un ma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609480" y="2895480"/>
            <a:ext cx="76964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ans les phrases suivantes remplacez les noms par le pronom correc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ttention à la posi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0033"/>
                </a:solidFill>
                <a:latin typeface="Times New Roman"/>
              </a:rPr>
              <a:t>Pronoms me/ te / lui/ nous/ vous/ leur</a:t>
            </a:r>
            <a:br>
              <a:rPr sz="38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2670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prêtez vos g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762120" y="31240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Vous  _______ prêtez vos ga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7"/>
          <p:cNvSpPr/>
          <p:nvPr/>
        </p:nvSpPr>
        <p:spPr>
          <a:xfrm>
            <a:off x="2590920" y="2971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lu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0"/>
          <p:cNvSpPr/>
          <p:nvPr/>
        </p:nvSpPr>
        <p:spPr>
          <a:xfrm>
            <a:off x="5105520" y="1828800"/>
            <a:ext cx="358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à votre cop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440" y="1828440"/>
            <a:ext cx="42670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prêtez votre liv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62120" y="31240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Vous  _______ prêtez votre li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7"/>
          <p:cNvSpPr/>
          <p:nvPr/>
        </p:nvSpPr>
        <p:spPr>
          <a:xfrm>
            <a:off x="2590920" y="29718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le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0"/>
          <p:cNvSpPr/>
          <p:nvPr/>
        </p:nvSpPr>
        <p:spPr>
          <a:xfrm>
            <a:off x="5105520" y="1828800"/>
            <a:ext cx="358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à vos am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0033"/>
                </a:solidFill>
                <a:latin typeface="Times New Roman"/>
              </a:rPr>
              <a:t>Pronoms me/ te / lui/ nous/ vous/ leur</a:t>
            </a:r>
            <a:br>
              <a:rPr sz="38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5867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u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prêtes ta valis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62120" y="31240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Je_______ prête ma vali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7"/>
          <p:cNvSpPr/>
          <p:nvPr/>
        </p:nvSpPr>
        <p:spPr>
          <a:xfrm>
            <a:off x="1828800" y="2895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0033"/>
                </a:solidFill>
                <a:latin typeface="Times New Roman"/>
              </a:rPr>
              <a:t>Pronoms me/ te / lui/ nous/ vous/ leur</a:t>
            </a:r>
            <a:br>
              <a:rPr sz="38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5867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nou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prêtez de l’arge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762120" y="31240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us _________ prêtons de l’arg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7"/>
          <p:cNvSpPr/>
          <p:nvPr/>
        </p:nvSpPr>
        <p:spPr>
          <a:xfrm>
            <a:off x="2133720" y="2971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v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0033"/>
                </a:solidFill>
                <a:latin typeface="Times New Roman"/>
              </a:rPr>
              <a:t>Pronoms me/ te / lui/ nous/ vous/ leur</a:t>
            </a:r>
            <a:br>
              <a:rPr sz="38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8:15:24Z</dcterms:created>
  <dc:creator>Mr. Smith</dc:creator>
  <dc:description/>
  <dc:language>en-US</dc:language>
  <cp:lastModifiedBy>Viviane Grebert</cp:lastModifiedBy>
  <dcterms:modified xsi:type="dcterms:W3CDTF">2011-12-04T18:44:19Z</dcterms:modified>
  <cp:revision>61</cp:revision>
  <dc:subject/>
  <dc:title>Allez, viens! – Level 2</dc:title>
</cp:coreProperties>
</file>